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5A40-FAE4-40CC-BFEE-B07D4741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BB337-CB05-41DE-A950-8B617DC7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1FF6-3CA7-44B6-A2C7-24CE84810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53E9-BF9B-4602-9969-DC63EBC0E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6A9F-B1B4-48EF-A9CD-722AD8D6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C265-C4D8-45F7-9DB5-C0413941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13A2-A341-46BA-9C9F-C91B74A4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2AA3-9EB2-4BA9-BC5C-A6B87116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B598B-D6EA-41AA-9851-524F8F2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6F52-9148-43C9-A874-CF78D87E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9E476-3A1E-4482-B9A8-0565CDFD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C7DC-75B9-4A00-91CD-585CFA88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3A3AF-6E16-4641-A963-86843063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D5CB-0E8A-400F-9C67-B57EBF68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6622-6E37-4C1A-83E1-AACD13AA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D291-8B38-4608-898F-1C6734B9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5BF9-E1F5-4FF8-911D-6842CDD5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D62C-9F73-436B-AC83-AA1A16D4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0A71-D521-4C11-956D-92140646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B5EB-D2A5-4877-967E-1055117F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D8359-924C-43D6-A7D4-D0D407D7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E999-8C6D-4EA5-8356-B1356C3F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91F-06EB-4871-8A9B-0112D6A43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1606-4DF6-4DB8-9B17-3DC00ED0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D167-C458-446C-9B9C-685778E934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77A0-E82F-4FA9-A17E-9F53C936F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mai bevétel, kiadás későbbi időpontra való felértékeléséhez a kamatfaktorokat használják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Egyszerű kamatfaktor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(ma már ritkán használják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K   = 1 + i • n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hol:    i : a kamatláb, tizedestört alakb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n: az évek szá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amatos kamatfaktor: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a kamat évenkénti tőkésítésével,a dinamikus gazdaságossági számításokban általában használt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         n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K   = (1 + i )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iszkontfaktor: 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a kamatfaktor reciproka, az időben visszafelé történő átszámításnál használják. Képlete kamatos kamatszámítássa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1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D   = ---------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n                          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1" lang="hu-HU" sz="1600" spc="-1" strike="noStrike">
                <a:solidFill>
                  <a:srgbClr val="ffffff"/>
                </a:solidFill>
                <a:latin typeface="Arial"/>
              </a:rPr>
              <a:t>(1 + 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gazdaságossági számításokhoz bármely dinamikus módszer alkalmazható, de a felkamatolásnak, vagy a diszkontálásnak mind a ráfordítások, mind az eredmény szempontjából mindig egy azonos időpontra kell történnie (vetítési pont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gazdaságossági mutató alakja dinamikus jellegű gazdaságossági vizsgálat esetén , jövőbeni eseményeket feltételezve és azt jelenértékre átszámítv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          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Σ Et * D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gdinj = -------------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          t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Σ Rt * D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t=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ahol:    t: a folyó év sorszámát kifejező inde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n: a számításba vett időhorizont, évekb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en mutató szerint mind az eredmények, mind pedig a ráfordítások részértékeit évenként diszkontálják, a ráfordítások előfordulásának első évére, rendszerint a beruházások, fejlesztések elkezdésének évére, és az így kapott értékeket összegzik, majd egymáshoz viszonyítjá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ásik módszer: a számítások kiinduló pontját a gyártás megindításának éve jelenti. Ebben az esetben a ráfordításokat a termelés megindításának az időpontjára felkamatolják, a termelés és értékesítés során realizált eredményeket pedig ugyanerre az időpontra diszkontálják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n           t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Σ Et * D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=m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gdinb = ----------------  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m          m-t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Σ Rt * K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t=1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Utólagos elemzéseknél mind a ráfordításokat, mind az eredményeket az időhorizont végére felkamatoljá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          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Σ Et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gdinjöv = 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n          n-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Σ Rt * 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t=1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Általános esetben a ráfordítások és a hozamok az idő függvényében különböző időpontokban és értékekben jelennek me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érési, vetítési időpontra történő átszámításuk minden egyes tétel külön-külön kezelését igény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zköze a kamatszámítás és diszkontálá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tőkeérték, vagy nettó jelenérték módszer a ráfordítások és eredmények jelenértékének egyenlegét határozza meg, és a beruházást akkor tekinti gazdaságosnak, ha ez az érték pozitív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dott vállalat 4OO MFt beruházást hajt végre, amelynek átfutási ideje 3 év. a negyedik évben kezdődő és folyamatosan 4 évig tartó termelés időszakában a terv szerint évenként 130 MFt nettó hozamot (eredményt) realizálnak. A beruházás (ráfordításai), majd az azt követő tervezett eredmény időbeli lefolyása a következő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. év Beruházás       120 MFt ráfordítá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2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15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13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4. év Termelé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10 MFt eredmé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5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4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6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5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7. é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130 M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30/400= 1,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hát az eredmény meghaladja a ráfordítást, vagyis : Gazdaság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 ! 7 éves átfutásnál nem hagyhatjuk figyelmen kívül az idő tényező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zért vizsgáljuk meg dinamikus módszerrel is ugyanezt a beruházást, a következő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eltételezések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llett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ráfordítások és az eredmények is a tárgyév végén, egy összegben merülnek f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z összehasonlítás alapja (időpontja) a beruházások befejező évének vége, illetve a termelés megindulási évének ele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z egyszerű kamatfaktorral végezzük a számí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a kamatláb 2O%-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ruházáson tárgyi eszközök  létesítésének, beszerzésének és üzembe helyezésének folyamatát, illetve ráfordításait értjü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ruházott eszközök jellemzője, hogy egy évet meghaladóan szolgálják a vállalkozás érdekeit, és értéküket folyamatosan adják át az általuk előállított termékeknek, szolgáltatásokna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10      140       150         13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------+  ------+    ----- +      -----    357,6 M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+0,2  1+2x0,2 1+3x0,2 1+4x0,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30 x 1 + 150 x 1,2 + 120 x 1,4 = 478 M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357,6/478                                  =   74,81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Így már gazdaságtalan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0/1,2 + 140/1,44 + 150/1,728 + 130/2,0736 =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1,66 + 97,22 + 86,80 + 62,69 = 338,3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0 + 180 + 172,8                    = 482,8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38,37/482,80 =                           70,08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Így még gazdaságtalanabb 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peciális eset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beruházás gazdaságossági vizsgálatokban a jövőbeni hozamok tervezésénél gyakran élnek azzal a feltételezéssel, hogy azok időben egyenletesen merülnek f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gyanakkor a beruházásokat, mint pontberuházást kezelik, és jelenértéküket adottnak tekintik. Ez a helyzet a gazdaságosság megítélésében az általános esettől eltérő, más kérdéseket is felvet, a számításokat pedig némileg módosítja. Ezt a problémát egyben az időtényező speciális megjelenési formájának is lehet tekinteni a gazdaságossági vizsgálatokba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ltalánosítva, az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gyszeri és folyamatos ráfordítások, ill. hozamok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ybevetésének, összeadhatóságának a problémája minden olyan tevékenység gazdaságosságának vizsgálatánál jelentkezik, amelyben mindkét fajtájú ráfordítás, ill. hozam felmerü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ldául hitelből megvalósítandó beruházás esetén az egyszeri hitelfelvételt rendszeresen - mintegy folyamatosan - követi a hitel visszafizetése, mégpedig időközönként egyenlő összegek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ruházást abban az esetben szabad indítani, ha annak eredményeként elérhető hozamokból a megállapított (egyenlő) törlesztő részleteket a vállalat vissza tudja fizetni a lejárati idő alat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i beruházás és a folyama­tosan felmerülő hozamok, ill. költségek egyenértékűségét a követ­kező egyenlet fejezi ki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Kb = B • q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hol:    Kb: az éves átlagos tőkeköltsé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: az egyszeri ráfordítás, beruház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q:   törlesztőfak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z egyszeri ráfordítások átalakítására a matematikából ismert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törlesztőfaktort,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mint az egységnyi tőke és kamatos kamatai mértani sorának összegképlete, reciprok alakban kifejezett formáját használjá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törlesztőfaktort más megfogalmazásban mint egységnyi befektetés után fizetendő járadékot, annuitást szokás definiál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q =</a:t>
            </a: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 • (1 + 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1 + 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hol:     q: a törlesztőfaktor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: a figyelembe vett kamatláb tizedestört alakban, azaz a ráfordítástól megkövetelt hatékonyság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: a figyelembe vett időtartam, időhorizont évekb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használatának módszerével a gazdasági döntésekben, számításokban lényegében az időtényezőt veszik figyelemb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számszerű értéke matematikai táblázatokból kivehető, vagy a fenti képlet segítségével kiszámíthat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törlesztőfaktor magába foglalja egyrészt a ráfordítás (kölcsön) egy évi megtérülését (részletét), másrészt a ráfordítás kamatos kamatait i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Ha n = 1, vagyis a kölcsönt egy év múlva vissza kell fizetni, akkor az egy évre számított tőkeköltség megegyezik a kölcsön és annak egy évi kamatának együttes össze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ott példát tekintve a következő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kérdések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tehetők fel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kkora törlesztő részletet kell fizetni a felvett hitel után, adott kamat mellett, a lejárati idő alat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mennyi ideig kell törleszteni a felvett hitelt, adott részletek és kamat mellett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- adott hitel, részletek és lejárati idő mellett mekkora a kalkulált kamatláb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gyanezek a kérdések úgy is megfogalmazhatók, hogy a saját forrásból végrehajtott beruházás mekkora egyenletes hozamok mellett, mikor, milyen elvárt hozam (kalkulált kamatláb) mellett térül me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beruházás gazdaságosságának megítélésére a felvett speciális esetben különböző válaszok, módszerek állnak rendelkezésr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egyes módszerek aszerint különböznek egymástól, hogy melyik kérdésre keressük a válasz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általános esethez hasonlóan alkalmazott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ettó jelenérték módsze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ijelölt vetítési időpontra, a jelenre" átszámítja a beruházás és a jövőbeni hozamok, illetve tőketerhek értéké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 a különbség nulla, a beruházás éppen megtérü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ülönbség pozitív értékével a gazdaságosság növekszi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s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m áll rendelkezésre múltbéli összehasonlító objektu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ótló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gyik elhasznált eszköz lecserélése, pótlása egy másik, hasonló eszközz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cionalizáló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zközök cseréje gazdaságosabban alkalmazható másik eszközr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ővít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z eszközállomány bővítése, amely történh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új eszköz beszerzéséve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lévő eszköz cseréjével nagyobb teljesítményűr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glévő eszköz javítása, korszerűsítése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ötelező beruházá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ogszabály, vagy hatóság előírása alapján szükséges beruházás, pl. a környezetvédelem, az üzembiztonság érdekéb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jövőbeni egyenletes hozamokat, amelyeknek a beruházási időpontra diszkontált értéke éppen a beruházás értékével egyenlő, </a:t>
            </a: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nnuitásnak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is szokás nevezn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számításokban a törlesztőfaktor reciprokat, az un. annuitás tényezőt is használjá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ruházás átlagos megtérülési hozamát az un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első kamatláb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ejezi ki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lső kamatláb a beruházásba fektetett tőke tényleges kamatozása. Ezt összehasonlítjuk az elvárt, normatív kamatlábbal, és ha nagyobb annál, akkor a beruházás célszerű és gazdaság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beruházások értékelése történh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gazdaságosság, rentabilitá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inanszírozhatósá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minőség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kockázat  alapjá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időtényező alapján a gazdaságossági számítások lehetnek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ikus 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namikus jellegű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kus gazdaságossági vizsgálato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zokás végezni az egy időben, egyszerre, vagy elhanyagolhatóan kis különbséggel lejátszódó gazdasági események mérlegelésekor, vagy olyan feltételezés mellett, hogy a reálfolyamatok értékarányaiban a vizsgálati idő alatt számottevő torzító hatás nem következik be az idő függvényébe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egyszeri ráfordítások statikus feltételezését reprezentálják az un. pontberuházások, egy új gyártóberendezés üzembeállítása, felszerszámozá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zámítás lényege, hogy a ráfordítások és az eredmények a felmerülés nominálértékén kerülnek számbavételre, minden korrekció nélkü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namikus gazdaságossági vizsgála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etén a viszonylag nagy időintervallumban végbemenő, számszerűsített gazdasági események összehasonlításakor figyelembe kell venni az időtényezőt, amely a ráfordításokat és eredményeket az időtengelyen mért elhelyezkedésük függvényében differenciáltan módosít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Általában ilyen jellegű gazdaságossági vizsgálatokat célszerű végezni minden, hosszabb ideig tartó fejlesztési, beruházási, termelési folyamat gazdaságossági elemzéseko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adott összegű mai bevétel, eredmény többet ér, mint egy ugyanilyen összegű jövőbeni bevétel, vagy eredmé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mai kiadás, ráfordítás nagyobb terhet jelent, mintha ugyanezt az összeget csak a jövőben kellene kiadni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t, hogy a mai forint mennyivel ér többet, mint a jövőbeni, az időpreferencia mértéke, felértékelési rátája határozza me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felértékelési rátát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matlább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jezik ki. Ha időpreferencia mértéke pl. 10%, akkor egy mai 10 millió forintos ráfordítás, vagy bevétel egyenértékű 11 millió forintos, egy évvel elhalasztható kiadással, vagy egy év múlva esedékes 11 millió forintos bevételle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törvényszerűség a mainál korábbi időpontokra is vonatkozik, ilyenkor a maival egyenértékű korábbi, kisebb összeget diszkontálással kell meghatározni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80-01-03T23:48:56Z</dcterms:created>
  <dc:creator>Laci</dc:creator>
  <dc:description/>
  <dc:language>en-US</dc:language>
  <cp:lastModifiedBy>Laci</cp:lastModifiedBy>
  <dcterms:modified xsi:type="dcterms:W3CDTF">1980-01-04T04:55:44Z</dcterms:modified>
  <cp:revision>3</cp:revision>
  <dc:subject/>
  <dc:title>1. dia</dc:title>
</cp:coreProperties>
</file>